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F377-C3CD-476B-A266-3E70C0306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94F6-7AD6-4655-90AA-8A88E9972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4E5B-6B73-43CD-9429-8004E4647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D91C-74B4-44D8-B461-F9C6A1637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94079-AD1A-4EF5-AFE8-C6A3DE418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B00E4-BDED-4773-8418-959662FF4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B0397-CB4C-4A07-A1DC-6C7FBDDF9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751CF-4DC5-406F-990E-E3FC575AB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83677-0B09-40CA-A11D-131B8A34C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81279-E8CB-41BA-BF4B-E15F47342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1A31A-56FC-4F83-9AB2-52AE303C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B415-B93B-4208-879C-B13A5260E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44189-BAC5-48D0-8F23-98F3D58A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03449-F3E6-48A8-8E47-C6303A1B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19908-8F54-49EF-912A-06742DD8F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98DE1-1F48-499E-9BAC-417304D83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92E71-517B-4835-8A9F-5797D16CC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0690-8B2F-4AB2-93D5-7041E688B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845C-9447-4C9C-9489-C9322AC16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A714-E533-479E-A790-C9812F085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BED8-B11F-4271-9B83-0942D3235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8125-6D33-41C5-8DDC-99B2DABD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C37B-B851-486A-8594-72381286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7114-B79C-4D6C-B7CC-F20C987D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99646-C747-467D-858E-B61AEE8E8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37908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A6698-03A9-45BE-904D-E819807C6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690480"/>
            <a:ext cx="811872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Systems Modelling and Simulation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(Lab session 6)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268160" y="642636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. Mousav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79280" y="3357360"/>
            <a:ext cx="89647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158840" indent="-60948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this session you should underst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58840" indent="-609480"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perform input data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58840" indent="-609480"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se of the input analy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58840" indent="-609480"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cept of entity balking, expressions and stor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58840" indent="-609480"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inating and steady-state simul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Problem description cont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324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l centre hours: 8am to 6p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few staff stay on till 7pm though system closes  to new calls at 6p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calls that enter by 6pm are serv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the day, 8 tech support persons are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2 devoted to product 1 call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3 to product 2 call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3 to product 3 call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are 4 sales persons for sales calls and follow-up order status cal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Performance measures of interes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 number of customer calls not able to get a trunk line and are rejec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time on line by customer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waiting for a real person by customer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calls waiting for service by customer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nel uti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71640" y="33336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Model 5-1 cont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71280" y="1700280"/>
            <a:ext cx="79880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modell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stomer rejection and balk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-way dec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bles and expres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r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rminating and steady-st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240" y="45720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Model 5-1 cont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71640" y="1557360"/>
            <a:ext cx="79740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ling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iew Arena’s hierarchical stru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lly, stay at the highest level possible as far as you ca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will use modules from the following panels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asic proces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dvanced proces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lock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Model 5-1 cont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71640" y="1980720"/>
            <a:ext cx="797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ing the model: model s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 Arrivals and direct to serv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rival cut-off log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chnical support cal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les cal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der-status cal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 exit and run setu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Model 5-1 cont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 to Arena and start building th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0000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Input analysi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99640" y="1268280"/>
            <a:ext cx="80456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formulation involv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ructural modell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olves model logic and behaviour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uantitative modell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olves numerical values and distribution of delays and other attribute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re of quantitative mod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eterministic vs. Random inpu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erministic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on-random. If so, its  simpl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dom variable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llow a probability distribution. If so do what is most realistic as far as possible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ensitivity analysis may be importan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99640" y="456840"/>
            <a:ext cx="804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Fitting input distribution with the Input Analyser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99640" y="1700280"/>
            <a:ext cx="8045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the Input Analy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notepad file, enter and save sample data in a “text only” form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042920" y="2276640"/>
            <a:ext cx="7993080" cy="30812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651640" y="3429000"/>
            <a:ext cx="3492360" cy="64764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18900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Judging the goodness-of-fi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71640" y="1341000"/>
            <a:ext cx="79740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obse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yeballing” the fitted densities on top of the histogr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 Square Error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measure of the quality of the distribution’s match to the dat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-Square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responding p-value: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larger values indicate better f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lmogorov-Smirnov (K-S)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responding p-value: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larger values indicate better f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-values less than 0.05 indicate not a very good f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high p-value is no proof, just a lack of evidence against the f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When there is no data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 does not exi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collection too expensive or disrupti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“ad hoc dat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Before leaving input analysi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stationary arrival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variate and correlated inpu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33336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Model 5-1: A simple call centre system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99640" y="1412640"/>
            <a:ext cx="804564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 provides a central number f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echnical suppor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les informatio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rder statu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oming call inter-arrival times: EXPO(0.857) mi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ntral number feeds 26 trunk li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all 26 in use, caller gets a busy signal, and goes aw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answered caller gets three options to transfer t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echnical support (76%)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les information (16%)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rder status inquiry (8%)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imated transfer time is UNIF(0.1,0.6)mi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4564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Problem description cont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99640" y="1557000"/>
            <a:ext cx="80456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caller chooses technical suppo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cording requests product type customer is us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duct 1 (25%), Product 2 (34%), Product 3 (41%)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is process takes UNIF(0.1,0.5)mi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f a qualified tech support person is available for selected product type, call is automatically sent to that person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lse customer is placed in a queu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me for all Tech support calls (for all product types) is TRIA(3,6,18)min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pon completion of call, customer exits system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es calls are automatically routed to sales staff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les calls take an estimated time of TRIA(4,15,45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on completion of call, customer exits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99640" y="115920"/>
            <a:ext cx="804564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Problem description cont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99640" y="1196640"/>
            <a:ext cx="804564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 status calls are automatically handled by the phon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no limit to the number the system can hand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an ongoing order status call occupies on of the trunk lines and there are only 2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rocess takes an estimated time of TRIA(2,3,4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% of these callers opt to speak to a real person after receiving order status inf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go to the sales staff where they wait with a lower priority than sales call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follow-up process takes TRIA(3,5,1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then exit the system after being serv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15:12:07Z</dcterms:created>
  <dc:creator>emstaam</dc:creator>
  <dc:description/>
  <dc:language>en-US</dc:language>
  <cp:lastModifiedBy>emstaam</cp:lastModifiedBy>
  <dcterms:modified xsi:type="dcterms:W3CDTF">2009-11-16T16:29:29Z</dcterms:modified>
  <cp:revision>105</cp:revision>
  <dc:subject/>
  <dc:title>Discrete Modelling</dc:title>
</cp:coreProperties>
</file>