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8E8-048C-454B-A7FC-4DBFF72AC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ictly speaking, you don’t need a Windows CE device because you can run your software on an emulator that runs on your develop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91C-24B7-4691-94E0-7D9C187D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F30-0B14-4D7F-855E-EA10AE2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876-06D3-4C39-93BA-A1BDE48E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9A3-A464-44C7-9240-DAA017A0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6EA-19B4-4D0E-A351-9E76DA8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9EB-297F-4A6C-BA7E-DE19B597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D83-40A5-4743-A5A6-E444F00F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499-BB06-4B5B-A649-02CD146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484-B35B-4388-9142-3652CED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85F-A8B8-4E2F-B259-46CCAA3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946-1DEA-483C-9451-9586399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6D0-2CCC-4316-923A-E399A9D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779-98F3-4685-B62C-5A87F1402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72550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details.aspx?FamilyID=9655156b-356b-4a2c-857c-e62f50ae9a55&amp;displaylang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ompact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a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AMAK TAVA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hool of Engineering &amp;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ww.brunel.ac.uk/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637000"/>
            <a:ext cx="1800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types for Mobile Direct3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700280"/>
            <a:ext cx="525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C# and Visual Basic 2005 languag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932280"/>
            <a:ext cx="1657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Infrar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292640"/>
            <a:ext cx="3600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s and components in Microsoft.WindowsCE.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37000"/>
            <a:ext cx="1657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Server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637000"/>
            <a:ext cx="1800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classes including; support for Windows.Forms, Drawing, Data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14972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2924280"/>
            <a:ext cx="16574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Datab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70028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4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4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392720" y="1880640"/>
            <a:ext cx="504720" cy="7344000"/>
          </a:xfrm>
          <a:custGeom>
            <a:avLst/>
            <a:gdLst>
              <a:gd name="textAreaLeft" fmla="*/ 0 w 504720"/>
              <a:gd name="textAreaRight" fmla="*/ 182160 w 504720"/>
              <a:gd name="textAreaTop" fmla="*/ 191520 h 7344000"/>
              <a:gd name="textAreaBottom" fmla="*/ 7152480 h 73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587700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ndation for writing applications for devices and plat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NET CF Supported Devices &amp; Plat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205000"/>
            <a:ext cx="1584360" cy="2303640"/>
          </a:xfrm>
          <a:custGeom>
            <a:avLst/>
            <a:gdLst>
              <a:gd name="textAreaLeft" fmla="*/ 199800 w 1584360"/>
              <a:gd name="textAreaRight" fmla="*/ 1384560 w 15843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1600" h="21600">
                <a:moveTo>
                  <a:pt x="2727" y="0"/>
                </a:moveTo>
                <a:lnTo>
                  <a:pt x="18873" y="0"/>
                </a:lnTo>
                <a:lnTo>
                  <a:pt x="18873" y="8024"/>
                </a:lnTo>
                <a:lnTo>
                  <a:pt x="19695" y="8024"/>
                </a:lnTo>
                <a:lnTo>
                  <a:pt x="19695" y="5500"/>
                </a:lnTo>
                <a:lnTo>
                  <a:pt x="21600" y="10800"/>
                </a:lnTo>
                <a:lnTo>
                  <a:pt x="19695" y="16100"/>
                </a:lnTo>
                <a:lnTo>
                  <a:pt x="19695" y="13576"/>
                </a:lnTo>
                <a:lnTo>
                  <a:pt x="18873" y="13576"/>
                </a:lnTo>
                <a:lnTo>
                  <a:pt x="18873" y="21600"/>
                </a:lnTo>
                <a:lnTo>
                  <a:pt x="2727" y="21600"/>
                </a:lnTo>
                <a:lnTo>
                  <a:pt x="2727" y="13576"/>
                </a:lnTo>
                <a:lnTo>
                  <a:pt x="1905" y="13576"/>
                </a:lnTo>
                <a:lnTo>
                  <a:pt x="1905" y="16100"/>
                </a:lnTo>
                <a:lnTo>
                  <a:pt x="0" y="10800"/>
                </a:lnTo>
                <a:lnTo>
                  <a:pt x="1905" y="5500"/>
                </a:lnTo>
                <a:lnTo>
                  <a:pt x="1905" y="8024"/>
                </a:lnTo>
                <a:lnTo>
                  <a:pt x="2727" y="802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205000"/>
            <a:ext cx="1150920" cy="2303640"/>
          </a:xfrm>
          <a:prstGeom prst="rightArrowCallout">
            <a:avLst>
              <a:gd name="adj1" fmla="val 48431"/>
              <a:gd name="adj2" fmla="val 50039"/>
              <a:gd name="adj3" fmla="val 16139"/>
              <a:gd name="adj4" fmla="val 79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64000" y="2205000"/>
            <a:ext cx="4968720" cy="2303640"/>
          </a:xfrm>
          <a:prstGeom prst="rightArrowCallout">
            <a:avLst>
              <a:gd name="adj1" fmla="val 23641"/>
              <a:gd name="adj2" fmla="val 25000"/>
              <a:gd name="adj3" fmla="val 8068"/>
              <a:gd name="adj4" fmla="val 94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 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Pocket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797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msdn2.microsoft.com/en-us/library/ms172550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compatibility m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St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T CF is fully integrated into VS.NET 2003 and lat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types are manag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s appl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libr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raphical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ulators f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W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following platfo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Pocket P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Smartph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CE 5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.NET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131920"/>
            <a:ext cx="2087640" cy="863640"/>
          </a:xfrm>
          <a:prstGeom prst="downArrowCallout">
            <a:avLst>
              <a:gd name="adj1" fmla="val 66369"/>
              <a:gd name="adj2" fmla="val 60431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Visual Studio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cludes .NET 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068640"/>
            <a:ext cx="2016360" cy="863640"/>
          </a:xfrm>
          <a:prstGeom prst="downArrowCallout">
            <a:avLst>
              <a:gd name="adj1" fmla="val 64103"/>
              <a:gd name="adj2" fmla="val 58368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rt De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s use 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2560" y="2133720"/>
            <a:ext cx="1656000" cy="863640"/>
          </a:xfrm>
          <a:prstGeom prst="downArrowCallout">
            <a:avLst>
              <a:gd name="adj1" fmla="val 52646"/>
              <a:gd name="adj2" fmla="val 47937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SD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ithout VS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0560" y="3068640"/>
            <a:ext cx="3240000" cy="863640"/>
          </a:xfrm>
          <a:prstGeom prst="downArrowCallout">
            <a:avLst>
              <a:gd name="adj1" fmla="val 103004"/>
              <a:gd name="adj2" fmla="val 93789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a setup wizard to inst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NET CF assemblies and development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76640"/>
            <a:ext cx="6264360" cy="1008000"/>
          </a:xfrm>
          <a:prstGeom prst="downArrowCallout">
            <a:avLst>
              <a:gd name="adj1" fmla="val 170631"/>
              <a:gd name="adj2" fmla="val 155366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on the target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 .NET CF 2.0 redistributable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microsoft.com/downloads/details.aspx?FamilyID=9655156b-356b-4a2c-857c-e62f50ae9a55&amp;displaylang=e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8920" y="278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2997360"/>
            <a:ext cx="144360" cy="194436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3284640"/>
            <a:ext cx="1800000" cy="1800000"/>
          </a:xfrm>
          <a:prstGeom prst="downArrowCallout">
            <a:avLst>
              <a:gd name="adj1" fmla="val 29456"/>
              <a:gd name="adj2" fmla="val 25000"/>
              <a:gd name="adj3" fmla="val 10194"/>
              <a:gd name="adj4" fmla="val 85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cfsetupv2.ms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 Visual Studio 8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\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.NET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5640" y="155736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 and R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 ActiveSy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5640" y="242100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 the target devic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ktop mach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3141720"/>
            <a:ext cx="8209080" cy="936720"/>
          </a:xfrm>
          <a:custGeom>
            <a:avLst/>
            <a:gdLst/>
            <a:ahLst/>
            <a:rect l="l" t="t" r="r" b="b"/>
            <a:pathLst>
              <a:path w="4218" h="734">
                <a:moveTo>
                  <a:pt x="0" y="643"/>
                </a:moveTo>
                <a:cubicBezTo>
                  <a:pt x="971" y="688"/>
                  <a:pt x="1943" y="734"/>
                  <a:pt x="2495" y="643"/>
                </a:cubicBezTo>
                <a:cubicBezTo>
                  <a:pt x="3047" y="552"/>
                  <a:pt x="3024" y="196"/>
                  <a:pt x="3311" y="98"/>
                </a:cubicBezTo>
                <a:cubicBezTo>
                  <a:pt x="3598" y="0"/>
                  <a:pt x="4067" y="68"/>
                  <a:pt x="4218" y="5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789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&amp; Running .NET CF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j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arget platf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Device Application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development destination (device / emulato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21:16:42Z</dcterms:created>
  <dc:creator>S.M.</dc:creator>
  <dc:description/>
  <dc:language>en-US</dc:language>
  <cp:lastModifiedBy>Alireza Mousavi</cp:lastModifiedBy>
  <dcterms:modified xsi:type="dcterms:W3CDTF">2007-03-13T08:42:10Z</dcterms:modified>
  <cp:revision>40</cp:revision>
  <dc:subject/>
  <dc:title>.NET COMPACT FRAMEWORK</dc:title>
</cp:coreProperties>
</file>