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CEF9-BD95-49CC-895F-394649B85A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tract representation of the model in symbolic or verb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alytical model uses formal reasoning and mathematical deduction (regression techniques, OR, curve fitting). Whilst numerical uses computational procedures (finite element analysis, fluid dynamics etc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dex set of process,  t is time   and X(t) is the random var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a multivariate system is more complicated to model than a univariate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establish your input data and interrelationship between your elements in a simulation model you should be able to describe your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series { X(t), t E 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s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 second moment is X(t) to the power of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Clearly any stationary process with finite second moment is covariance stationary. – A stationary process may have no finite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generative not really used but has good properties. But suppose you have a regenerative simulation consisting of m cycles of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n1, n2, …, nm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size – the mean value is total divided by number of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 batch means consists of a very long simulation which is suitably divided into initial transient period of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n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batches. Each batch is then treated as an independent run, whilst no observation is made during the warm up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dependent replication is most popular for systems with short transient period. Method requires independent simulation runs (number of replications) using different random seeds for simulation random number generat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***VERY IMPORTANT FOR YOUR ASSIGNMENTS – I REQUIRE A GOOD NUMBER OF REPLICATIONS WITH VARIOUS SEEDS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ose contact without actually touching one another. Adjacent in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E23-AC40-4A7B-9D70-5828AD10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9CD-4D30-4735-A637-695A2A4A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7C9E-3E8D-4A98-9E46-68BE315B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36C-E518-4C33-9DB2-2CF4F915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D38C-A2B4-414E-B869-8C588519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908-1591-4FE0-AFA2-0DA89BEA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0FF1-697C-4568-8CDB-89DB9096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70FE-11B3-4A52-9847-4EFB4D8A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E9B0-B20F-4CAD-920C-9705E19B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0568-EA38-41CB-82C0-CDBC55AA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77FF-2338-4C8B-BA70-A7C75468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48BE-07AB-4CFD-AD6E-A517A02D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80A7-B08B-4E9C-ADC5-8E8A14A6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1A51-24F0-409D-B77D-DCCAD6CC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2A22-FBAC-454D-BD96-293CD905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D1A2-1336-4CD9-8257-DBB2DCCA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6962-70A7-48B5-93F0-12F3EBA9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CAA-AE70-41D6-85DA-5E8B6483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08F-D6CA-472B-902D-D9A3707F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01F-6EEF-4384-963E-BEC02354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2540-C438-4D95-876C-686F321C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242-8A16-4385-9194-DC2A900C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1C9-C0FE-4687-B864-6AF5916F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6EF-5D10-4DCF-8424-72A4A50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E02D-44B2-4C8C-B719-92E339039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3790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A916-3E7F-4423-92F8-B4A5F3BF3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884160"/>
            <a:ext cx="811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ystems Modelling and Simulatio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10920" y="3644640"/>
            <a:ext cx="8001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Modelling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4 cours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environment as a time base dynamic system analysis t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rom previous theoretical discussions to practical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8160" y="64263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. Mousa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FC38-6392-46E6-AEA2-A8AB613EBC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Classification Schem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128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delling understanding the concept of the model is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figure24"/>
          <p:cNvPicPr/>
          <p:nvPr/>
        </p:nvPicPr>
        <p:blipFill>
          <a:blip r:embed="rId1"/>
          <a:srcRect l="0" t="-291" r="7" b="0"/>
          <a:stretch/>
        </p:blipFill>
        <p:spPr>
          <a:xfrm>
            <a:off x="1258920" y="2565360"/>
            <a:ext cx="7416720" cy="3192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16000" y="5805360"/>
            <a:ext cx="7237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* Source: Balci O. (1987), Modelling and simulation class notes, Department of Computer Science, Virginia Tech., VA pp. 10-13, Spring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507-25A4-4FCA-B299-C9FEDEE1AD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The four dimensions for model classificatio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Balci (198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al Model representation and formulation (also see lecture note 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ccessful Sim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Model Objectives without preliminary value 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properties of the model (static vs. dynam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technique (analytical vs. numerical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E2D-1780-4144-83A7-DA4F6B9EF0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Event Simulation can be classified as: abstract, dynamic, descriptive and numerical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57F-4884-4A4F-B674-490E16109F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ES Models can be …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 between its variables to be eith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ar or non-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le or un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ady-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haviour remains similar in time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ehaviour changes in 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nom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itial input)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Autonom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put at any time during the simul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see lecture notes 1-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804-E1C9-4B7E-B859-82E797FDFC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mulation fac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put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nature is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time between arrivals, machine breakdow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relationship between system elements (i.e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vai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mpl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 of the simulation should be a close approximation of the re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9DC-41DB-4400-AC29-92ECA5DACE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. Random Input variab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urely random input variable to a simulation could be considered as 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ochastic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chastic process is defined by collection of random variab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X(t), t in 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{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k = 1,2,3, …}    k: is the order of the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bability distribution function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) = Pr {X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=x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64000" y="3141720"/>
            <a:ext cx="432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85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t of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796000" y="3357720"/>
            <a:ext cx="576360" cy="7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141720"/>
            <a:ext cx="503280" cy="431640"/>
          </a:xfrm>
          <a:prstGeom prst="ellipse">
            <a:avLst/>
          </a:prstGeom>
          <a:noFill/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32000" y="306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Random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4140000" y="3357720"/>
            <a:ext cx="215640" cy="71280"/>
          </a:xfrm>
          <a:prstGeom prst="line">
            <a:avLst/>
          </a:prstGeom>
          <a:ln w="93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CAD-638B-467A-AF6E-132EE97B97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. Univariate vs. Multivaria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nivariate Proce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each random variab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a single quantity such as customer service time. 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be the service time for custom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variate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number of quantities such as service time for different type of products. So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…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, B, … represent the type of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5C54-BF25-42B5-9F2E-8703872376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. Input data in practic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Distribution analysis and Curve 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data validation and verification (K-S and Chi-square tes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Distributions: Uniform, Normal, LogNormal Exponential, Poisso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62A-1A2F-4218-BC05-0EE6FE4E53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. Example – Normal (Mean, StdDev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419640" y="1988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013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51280" y="2239920"/>
            <a:ext cx="3960720" cy="2484360"/>
          </a:xfrm>
          <a:custGeom>
            <a:avLst/>
            <a:gdLst/>
            <a:ahLst/>
            <a:rect l="l" t="t" r="r" b="b"/>
            <a:pathLst>
              <a:path w="2495" h="1565">
                <a:moveTo>
                  <a:pt x="0" y="1565"/>
                </a:moveTo>
                <a:cubicBezTo>
                  <a:pt x="144" y="1478"/>
                  <a:pt x="288" y="1391"/>
                  <a:pt x="454" y="1157"/>
                </a:cubicBezTo>
                <a:cubicBezTo>
                  <a:pt x="620" y="923"/>
                  <a:pt x="839" y="318"/>
                  <a:pt x="998" y="159"/>
                </a:cubicBezTo>
                <a:cubicBezTo>
                  <a:pt x="1157" y="0"/>
                  <a:pt x="1233" y="39"/>
                  <a:pt x="1407" y="205"/>
                </a:cubicBezTo>
                <a:cubicBezTo>
                  <a:pt x="1581" y="371"/>
                  <a:pt x="1861" y="938"/>
                  <a:pt x="2042" y="1157"/>
                </a:cubicBezTo>
                <a:cubicBezTo>
                  <a:pt x="2223" y="1376"/>
                  <a:pt x="2420" y="1460"/>
                  <a:pt x="2495" y="15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4360" y="2349360"/>
            <a:ext cx="0" cy="273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01800" y="1989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856280" y="5084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49040" y="2421000"/>
            <a:ext cx="229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00E-EE94-4B5C-BE59-3B86F2EBB1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B. Process Definition (System Logic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ttributes: Name, process time, schedule, capacity, MTBF, buffer size, priority rules, seize-delay-release rules, transport rul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: Location, capacity and other rul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layout: Location of resourc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Sequence: Process plan, process flow, transportation between resource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rs: Type, capacity, speed, 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1FF4-78E7-4E7E-8E16-5A3B3FBC50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discuss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to be taken in a simulatio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input / out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techniques for experiment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verification, validation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2E8-80ED-409B-AF77-BC45FF8C7B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. Simulation Analysis of Resul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Evaluation and What-if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ent Estimation Applications (test and measure sensitivity inform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gene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7AC-74BE-4F2A-AAAF-09250D81C4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. Analysis Condit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3240" y="1483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erform statistical analysis of the simulation output we need to establish that output data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ariance stationary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at is the data collected over n simulation ru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D26-62EB-4ACF-98B6-4F68BD8F6F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tationary Process (strictly stationary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560" y="19810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ionary process is a stochastic process which probability distribution at a fixed time or 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(t),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} is the same for all times and pos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paramet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change over the same time and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Operator service time, mean time between arrivals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09C-0854-4D8F-9CB2-413F5798C4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variance Stationary proces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628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variance stationary process is a stochastic proc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{ X(t), t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T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ing finite second mo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X(t)]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fin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tochastic processes (covariance stationar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equence of 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 of random-value sequence of independent variables that are identically distributed having finite var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 being random variable with known distribution function, 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=Z, the process {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…} is stationary if Z has a finite varian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20720" y="2349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FC2-8530-4820-8F56-C676CE3CE8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eady State Simul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hering steady state simulation output requires statistical assu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iculty is to obtain independent simulation runs without the transi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opular techniq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A6B0-CA01-47C7-A7C5-3BBA566DA9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teady State Simul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erativ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Re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390840" cy="15242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19640" y="2637000"/>
            <a:ext cx="3333960" cy="18572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788000" y="4653000"/>
            <a:ext cx="26575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8AC-6753-4B01-9596-E4749DB271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mulation Experiment and Desig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162864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 parameters and structural assumptions composing a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 on which parameters in the model are fixed and which are experimental depends on the system and the system 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can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numerical value)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not quantif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can be controllable or uncontrol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rimental design in simulation provides for a platform to ascertain particular configurations  to achieve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B1F-C64C-46D3-AD10-C0D5E3E202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mulation Mode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more than just a combination of mathematical formulas which require input parameters and release output performanc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conduct sensitivity analysis (Gradient estimation) – which parameters have the most impact o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942-B75B-4C08-8EE8-E714D998E3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imulation Model Validation, Verification and Test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id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monstrate that the model behaves in a satisfactory way consistent with th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ubstantiating that a model has transformed from one condition to another as intended and as accurate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if inaccuracies exist in the model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0F1-A195-47D3-8154-791AB4822C8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iscrete Event Simulation (DES)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solving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riving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s in compute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ed budgets and affor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976-7423-47A7-8491-2475C73D07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imulation Techniqu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te Car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herently non-probabilistic problem is solved by stochastic (Random) process – explicit representation of time is not requi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inuo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ariables within the simulation model are continuous functions and change over time – State of the variables change over time (e.g. differential equations); example: rates and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rete Eve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o parameters (variables) within the model change at precise moments of simulation time; example Meantime between failure or customer inter-arri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63C8-40EE-4A7C-AFEF-B824F1DED8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ime and Sta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he context of DES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tat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of paramount impor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pinning elementary concepts that define the relationship between Time and State (Nance* 1987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Instant   (2) Interval    (3) Span    (4) 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ce R.E. and Overstreet C.M. (1987), “Diagnostic assistance using digraph representations of DES model specifications”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ransactions of the Society for Computer Simulation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. 4, No. , pp. 33-57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CBD8-158F-4A0E-BB87-86997228E9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lementary Modelling Concep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a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system time in which an attribute of a system component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ation between two successiv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succession of one or mor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ter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ta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eration of all attribute values associated with an object at a particular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i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ing to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375-57FA-4D41-9180-013FB5BE67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asic Simulation Concep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700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an object over an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1" action="ppaction://hlinksldjump"/>
              </a:rPr>
              <a:t>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an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insta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and represents a change in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object stat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it instantiates an activity. A condition expressed as function of time needs to be met for an event to occ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Activ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state of an object between two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scribing successive state changes for that ob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ion of states of an object over a time sp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44E-4F8D-4E52-8660-C32E3317FF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asic Simulation Concepts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5300640"/>
            <a:ext cx="669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58760" y="5514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38040" y="5514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55840" y="551484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48320" y="5467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0" y="4797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9960" y="4460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9400" y="3500280"/>
            <a:ext cx="15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bject A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679640" y="25160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127720" y="48672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268360" y="42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68360" y="4292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435640" y="4292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68000" y="4653000"/>
            <a:ext cx="1008360" cy="0"/>
          </a:xfrm>
          <a:prstGeom prst="line">
            <a:avLst/>
          </a:prstGeom>
          <a:ln w="2844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4653000"/>
            <a:ext cx="1224000" cy="0"/>
          </a:xfrm>
          <a:prstGeom prst="line">
            <a:avLst/>
          </a:prstGeom>
          <a:ln w="2844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34800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321300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81200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347640" y="5013360"/>
            <a:ext cx="576360" cy="0"/>
          </a:xfrm>
          <a:prstGeom prst="line">
            <a:avLst/>
          </a:prstGeom>
          <a:ln w="2844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5013360"/>
            <a:ext cx="576360" cy="0"/>
          </a:xfrm>
          <a:prstGeom prst="line">
            <a:avLst/>
          </a:prstGeom>
          <a:ln w="28440">
            <a:solidFill>
              <a:srgbClr val="3333cc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347640" y="3645000"/>
            <a:ext cx="165564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88000" y="3645000"/>
            <a:ext cx="122400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270828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270828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2637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2637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10B-AB3A-4396-8361-25F2CC7F71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refore …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modelling is the process of describing a system with the goal of experimenting with the model to get a better insight to the behaviour of tha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flect the system, the designed model contains the constituents of the system (i.e. objects) with their associated attributes and the rules of interaction with other objects 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del 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CDA-4073-4E62-9746-D3920D6526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12:07Z</dcterms:created>
  <dc:creator>emstaam</dc:creator>
  <dc:description/>
  <dc:language>en-US</dc:language>
  <cp:lastModifiedBy>emstaam</cp:lastModifiedBy>
  <dcterms:modified xsi:type="dcterms:W3CDTF">2011-09-09T07:33:34Z</dcterms:modified>
  <cp:revision>40</cp:revision>
  <dc:subject/>
  <dc:title>Discrete Modelling</dc:title>
</cp:coreProperties>
</file>