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A1E4-16C2-492F-9219-CAC1607D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C57-C11E-4809-BDBC-04E82970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E446-10F4-4C19-9CEF-EC972552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3AC-BB3F-47EB-809D-1B683D17F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8236-B7E4-438B-8B05-F966F7AD7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020A5-EBA7-4FA2-B5EE-44D20D5D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1433-9C14-4299-A1CD-6D63905E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AE0C-C356-4F70-8030-56A5CA27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25D3-E5C8-4249-A31E-79FF32CA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5FBE-E6AC-4C87-BDB9-4D8874DE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FBA5-3407-44D5-8AA8-66A92D61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4464-C4A1-413E-A3EF-9D7851B7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F3D9-BA14-40E6-8A09-5F11E24E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84CCA-7883-4226-A53B-7DE7EE7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3C14-D816-4618-8B6B-BC8882502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0CF0-0617-4066-A8EE-47912298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1453-D9D8-4606-B676-BEB12256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2C80-4206-407A-AA06-CC45044DE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5EAF-7DB6-4111-85B5-B7122A96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7A3-5541-4BD3-8FFF-1983CB4B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5F5-5399-4CEF-B3DB-2018EE1BB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8951-7955-44AB-AFE5-E24B3BF3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83D2-EB9B-4DEF-9547-9DB78A3DD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6B25-35BA-48E7-B3C0-9EE9B009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9AA8-C299-45F9-B8DD-5917B77C60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3790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C28D-473F-4F87-A497-AD0BDBB38E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2.wmf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884160"/>
            <a:ext cx="811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ystems Modelling and Simulatio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7)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120" y="3860640"/>
            <a:ext cx="82105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ype I Single Station System and Type II Group Technology (Cellular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rther Essential Rea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. P. Groover (2001); Automation, Production Systems, and Computer Integrated Manufacturing; Second Edition; International Edition; Prentice Hall International, Inc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68160" y="64263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. Mousa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60D3-242F-43C5-8B7A-7452491E404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chine Cluster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machine does not require continuous attention from an operator, hence an operator can handle more than 1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considered as type I, because operator attention is required every work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ning level from M = 1 to M = 1/n (n is number of machines assigned to a work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chine clus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mbination of two or more machines that produc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dentical products or products with same cycle ti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EBA-36E5-47B1-B65A-3D9AFE918F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chine Clusters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machine cyc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be the machine service time done by a work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provided that the machine is available at all times th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The total cycle time would b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For a balanced system the number of machines that can be assigned to an operator would b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27640" y="5445000"/>
                <a:ext cx="1368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24360" y="6021360"/>
            <a:ext cx="432000" cy="28728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162480" y="6093000"/>
            <a:ext cx="256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ime for the operator 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ove between mach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64000" y="5877000"/>
            <a:ext cx="360360" cy="358560"/>
          </a:xfrm>
          <a:prstGeom prst="ellipse">
            <a:avLst/>
          </a:prstGeom>
          <a:noFill/>
          <a:ln w="158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82B5-49B7-4499-B320-CD01174688F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of CNC Lathes produce similar products at a rate of 2.2 min. (cycle time = 2.2 min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an operator to load and unload the parts at 20 seconds (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20) and it takes 15 sec. to get to each machine (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machine idle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many machines can an operator handle?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rator service time = 4 X 20 = 80 sec, total walking time= 4X15= 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s idle time =&gt; 152 – 140 = 12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484360" y="3860640"/>
                <a:ext cx="568800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2</m:t>
                        </m:r>
                        <m:r>
                          <m:rPr>
                            <m:lit/>
                            <m:nor/>
                          </m:rPr>
                          <m:t xml:space="preserve"> se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32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rPr>
                            <m:lit/>
                            <m:nor/>
                          </m:rPr>
                          <m:t xml:space="preserve">   that is 4 machines per operat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705-1FAA-4DF5-AEF9-AFDCA264ADB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Group Technology (GT) and Cellular Manufacturing (CM)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also see previous lecture notes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T is a manufacturing philosophy in which similar parts are identified and grouped together to take advantage over their similarities and in design and production processes”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Groover 2001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common form of production in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batch manufacturing that needs to be more efficient and produ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BD25-5154-407B-8900-BA29ACD1BC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G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s are arranged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part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duction/service equipment are arranged into groups or cells to facilitate work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isation of tooling, fixturing and set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d material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plans and schedules are im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tion in W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tter qualit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specialised work-force and job satisf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part and tool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ing and Trace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25C1-9924-4D86-93F2-40F6EFEF8A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roduction Flow Analysis (PFA) for GT and C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oneered by J. Burbridge (1963) is method for identifying part families and machine grouping based on production process flow (product route shee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uses manufacturing process data rather than design data overco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s that may have similar design attributes (geometries) but require different process rout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ts that may have different design attributes (geometries) but require identical process rou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4FC8-C35A-471F-B816-0AE7AB1E49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implistic Example PFA chart to determine Machine Grouping  (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imes New Roman"/>
                <a:hlinkClick r:id="rId1" action="ppaction://hlinksldjump"/>
              </a:rPr>
              <a:t>Part Machine Incidence Matrix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Times New Roman"/>
              </a:rPr>
              <a:t>)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[Groover 2001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55640" y="1557360"/>
          <a:ext cx="4032360" cy="3483000"/>
        </p:xfrm>
        <a:graphic>
          <a:graphicData uri="http://schemas.openxmlformats.org/drawingml/2006/table">
            <a:tbl>
              <a:tblPr/>
              <a:tblGrid>
                <a:gridCol w="1111320"/>
                <a:gridCol w="330120"/>
                <a:gridCol w="328680"/>
                <a:gridCol w="331920"/>
                <a:gridCol w="333360"/>
                <a:gridCol w="318960"/>
                <a:gridCol w="306360"/>
                <a:gridCol w="345960"/>
                <a:gridCol w="328680"/>
                <a:gridCol w="2970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59280" y="2486160"/>
          <a:ext cx="4086360" cy="3463920"/>
        </p:xfrm>
        <a:graphic>
          <a:graphicData uri="http://schemas.openxmlformats.org/drawingml/2006/table">
            <a:tbl>
              <a:tblPr/>
              <a:tblGrid>
                <a:gridCol w="1125720"/>
                <a:gridCol w="334800"/>
                <a:gridCol w="324000"/>
                <a:gridCol w="301680"/>
                <a:gridCol w="334800"/>
                <a:gridCol w="334800"/>
                <a:gridCol w="335160"/>
                <a:gridCol w="312840"/>
                <a:gridCol w="347400"/>
                <a:gridCol w="335160"/>
              </a:tblGrid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344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6987-2252-442D-A86F-F7995CE712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chematic Layout and Possible Part flo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08000" y="2276640"/>
            <a:ext cx="6120000" cy="3384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227664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300720" y="2276640"/>
            <a:ext cx="0" cy="33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27280" y="2852640"/>
            <a:ext cx="792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050920" y="3860640"/>
            <a:ext cx="7923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3860640"/>
            <a:ext cx="79200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95640" y="3213000"/>
            <a:ext cx="7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19640" y="3213000"/>
            <a:ext cx="792360" cy="576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443640" y="2852640"/>
            <a:ext cx="79236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3716280"/>
            <a:ext cx="792000" cy="576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2997360"/>
            <a:ext cx="289080" cy="288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46200" y="4005360"/>
            <a:ext cx="289080" cy="28872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3500280"/>
            <a:ext cx="289080" cy="28908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2410920" y="3429000"/>
            <a:ext cx="576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4221000"/>
            <a:ext cx="215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43280" y="414972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4328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835280" y="3284280"/>
            <a:ext cx="792000" cy="36036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87640" y="3429000"/>
            <a:ext cx="504720" cy="4316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76720" y="4437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19640" y="4437000"/>
            <a:ext cx="0" cy="43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35280" y="4437000"/>
            <a:ext cx="0" cy="36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27640" y="177336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427280" y="2133720"/>
            <a:ext cx="14436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1773360"/>
            <a:ext cx="360360" cy="360360"/>
          </a:xfrm>
          <a:prstGeom prst="rtTriangl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43640" y="1773360"/>
            <a:ext cx="504720" cy="360360"/>
          </a:xfrm>
          <a:prstGeom prst="plus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7143480" y="1700280"/>
            <a:ext cx="595440" cy="504720"/>
            <a:chOff x="7143480" y="1700280"/>
            <a:chExt cx="595440" cy="504720"/>
          </a:xfrm>
        </p:grpSpPr>
        <p:sp>
          <p:nvSpPr>
            <p:cNvPr id="212" name=""/>
            <p:cNvSpPr/>
            <p:nvPr/>
          </p:nvSpPr>
          <p:spPr>
            <a:xfrm>
              <a:off x="7307280" y="1773360"/>
              <a:ext cx="431640" cy="43164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177840 h 431640"/>
                <a:gd name="textAreaBottom" fmla="*/ 2538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33cc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43480" y="17002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6659640" y="2133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6948360" y="2133720"/>
            <a:ext cx="503280" cy="7189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03640" y="1773360"/>
            <a:ext cx="360360" cy="36036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88000" y="35002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51640" y="378936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571640" y="2133720"/>
            <a:ext cx="647640" cy="107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56000" y="3789360"/>
            <a:ext cx="0" cy="719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4787640" y="2133720"/>
            <a:ext cx="936360" cy="1079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88000" y="3645000"/>
            <a:ext cx="431640" cy="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35640" y="3789360"/>
            <a:ext cx="0" cy="7192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7818120" y="1700280"/>
            <a:ext cx="590760" cy="504720"/>
            <a:chOff x="7818120" y="1700280"/>
            <a:chExt cx="590760" cy="504720"/>
          </a:xfrm>
        </p:grpSpPr>
        <p:sp>
          <p:nvSpPr>
            <p:cNvPr id="225" name=""/>
            <p:cNvSpPr/>
            <p:nvPr/>
          </p:nvSpPr>
          <p:spPr>
            <a:xfrm>
              <a:off x="7977240" y="1773360"/>
              <a:ext cx="431640" cy="431640"/>
            </a:xfrm>
            <a:custGeom>
              <a:avLst/>
              <a:gdLst>
                <a:gd name="textAreaLeft" fmla="*/ 177840 w 431640"/>
                <a:gd name="textAreaRight" fmla="*/ 253800 w 431640"/>
                <a:gd name="textAreaTop" fmla="*/ 177840 h 431640"/>
                <a:gd name="textAreaBottom" fmla="*/ 253800 h 43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120" y="170028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659640" y="3429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80360" y="429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516720" y="3429000"/>
            <a:ext cx="0" cy="7920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235640" y="2060640"/>
            <a:ext cx="936360" cy="936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6000" y="3213000"/>
            <a:ext cx="431640" cy="50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596360" y="4292640"/>
            <a:ext cx="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D75-DAE1-4C2D-8239-021C3E5C0F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Quantitative Analysis in C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 parts and machines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rder Clu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ing machines in a G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lier Method 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llier Method 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2FC7-08FE-4390-8927-6F29C6163E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1. Grouping parts and machines by </a:t>
            </a:r>
            <a:r>
              <a:rPr b="1" lang="en-US" sz="3600" spc="-1" strike="noStrike">
                <a:solidFill>
                  <a:srgbClr val="003366"/>
                </a:solidFill>
                <a:latin typeface="Times New Roman"/>
              </a:rPr>
              <a:t>Rank Order Clustering </a:t>
            </a: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[Groover 2001]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J. R. King (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ing machin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by reducing the part machine incidence matrix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E4D-012E-4B7F-A231-070CD4641A8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he remaining subject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I and Type II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al Assembl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ing The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5687-2C81-430D-A837-2ABEDE4FCF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art Machine incidence Matrix Algorith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73240" y="1699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 the series of 1 and 0s from left to right in the matrix as binary number                                          . Rank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w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order of decreasing values. In case of a tie, rank the rows in the same order as they appear in the current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ing from top to bottom, is the new order of rows the same as the rank order determined in the previous step? –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7.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ot to next ste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der the rows in the part-machine incidence matrix by listing them in decreasing rank order, start from the 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19640" y="198900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i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  to  i-1  number of row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8015-F763-46BE-B3EB-27C54331E65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Part Machine incidence Matrix Algorithm cont.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72880" y="1773360"/>
            <a:ext cx="7575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ach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lum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matrix, read the series of 1 and 0s from the top to the bottom of the binary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 the columns in order of decreasing value. In case of a tie, rank the columns in the same order as they appear in the current matri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ing from left to right, is the current order of columns the same as the rank order determined in the previous step? –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t to step 7, else go to next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order the columns in the part-machine incidence matrix by listing them in decreasing rank order, starting with the left column, go to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971640" y="2565360"/>
                <a:ext cx="31669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j</m:t>
                        </m:r>
                      </m:sup>
                    </m:s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0  to  j-1  number of column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664-3D66-4530-8416-EFD169D3A24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– First iter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116000" y="1484280"/>
                <a:ext cx="669600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inary Values    2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2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2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50" name=""/>
          <p:cNvGraphicFramePr/>
          <p:nvPr/>
        </p:nvGraphicFramePr>
        <p:xfrm>
          <a:off x="1547640" y="1773360"/>
          <a:ext cx="7070400" cy="3752280"/>
        </p:xfrm>
        <a:graphic>
          <a:graphicData uri="http://schemas.openxmlformats.org/drawingml/2006/table">
            <a:tbl>
              <a:tblPr/>
              <a:tblGrid>
                <a:gridCol w="1251360"/>
                <a:gridCol w="372600"/>
                <a:gridCol w="372240"/>
                <a:gridCol w="372600"/>
                <a:gridCol w="372240"/>
                <a:gridCol w="360000"/>
                <a:gridCol w="347400"/>
                <a:gridCol w="386640"/>
                <a:gridCol w="372600"/>
                <a:gridCol w="334440"/>
                <a:gridCol w="1762200"/>
                <a:gridCol w="766080"/>
              </a:tblGrid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4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2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7F0C-3635-4C21-84AD-E78C4D4B9D8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– Second iteration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71640" y="1700280"/>
          <a:ext cx="7772400" cy="4167000"/>
        </p:xfrm>
        <a:graphic>
          <a:graphicData uri="http://schemas.openxmlformats.org/drawingml/2006/table">
            <a:tbl>
              <a:tblPr/>
              <a:tblGrid>
                <a:gridCol w="1984320"/>
                <a:gridCol w="439560"/>
                <a:gridCol w="439920"/>
                <a:gridCol w="439560"/>
                <a:gridCol w="438480"/>
                <a:gridCol w="425160"/>
                <a:gridCol w="432000"/>
                <a:gridCol w="455400"/>
                <a:gridCol w="439920"/>
                <a:gridCol w="395280"/>
                <a:gridCol w="188280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nary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cimal 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66ff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7308720" y="2421000"/>
                <a:ext cx="282600" cy="26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C6FC-F390-4D42-91F0-AFEABF0CA0B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– Solution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[Groover 2001 – more examples]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16000" y="1413000"/>
          <a:ext cx="7772040" cy="4114440"/>
        </p:xfrm>
        <a:graphic>
          <a:graphicData uri="http://schemas.openxmlformats.org/drawingml/2006/table">
            <a:tbl>
              <a:tblPr/>
              <a:tblGrid>
                <a:gridCol w="2432880"/>
                <a:gridCol w="585360"/>
                <a:gridCol w="585720"/>
                <a:gridCol w="667800"/>
                <a:gridCol w="667440"/>
                <a:gridCol w="546120"/>
                <a:gridCol w="608400"/>
                <a:gridCol w="526320"/>
                <a:gridCol w="585360"/>
                <a:gridCol w="566640"/>
              </a:tblGrid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81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1403280" y="5805360"/>
            <a:ext cx="712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B &amp; D can be put in either of the two machine groups since they require machines from group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overlapp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0920" y="2349360"/>
            <a:ext cx="576360" cy="935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50920" y="3357720"/>
            <a:ext cx="578160" cy="93492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0920" y="4365720"/>
            <a:ext cx="576360" cy="1295280"/>
          </a:xfrm>
          <a:prstGeom prst="ellipse">
            <a:avLst/>
          </a:prstGeom>
          <a:noFill/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B2B-C223-4589-951B-71BBDD39A63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Another alternative to overlapping – adding another Machine 1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971640" y="1916280"/>
          <a:ext cx="7772040" cy="4114440"/>
        </p:xfrm>
        <a:graphic>
          <a:graphicData uri="http://schemas.openxmlformats.org/drawingml/2006/table">
            <a:tbl>
              <a:tblPr/>
              <a:tblGrid>
                <a:gridCol w="2485080"/>
                <a:gridCol w="598320"/>
                <a:gridCol w="597960"/>
                <a:gridCol w="598680"/>
                <a:gridCol w="598320"/>
                <a:gridCol w="557640"/>
                <a:gridCol w="621720"/>
                <a:gridCol w="537480"/>
                <a:gridCol w="598680"/>
                <a:gridCol w="578160"/>
              </a:tblGrid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ch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1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ff00"/>
                          </a:solidFill>
                          <a:latin typeface="Arial"/>
                          <a:ea typeface="Arial"/>
                        </a:rPr>
                        <a:t>1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59CD-650C-4139-AABC-A8EE8ACFF57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2. Arranging machines in a GT cell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grouping machines into corresponding cells one needs to arrange them within the cell to minimise material handling between machi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lier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F55-0791-4B9F-9BF2-6262CC62F4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llier Method 1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7280" y="1267920"/>
            <a:ext cx="77724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-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 from process plan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sum of trip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 machines to the cell based on minimum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lowest is a To (column), then it goes to the beginning – if the lowest is From (row), then the machine goes to the en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tie occurs on a row or a column, then the machine with minimum From/To ratio is selec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both are the same it is passed over and the next machine with the lowest value is selected to go to the beginning or the end of the seque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ce a machine is selected reformat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om-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3709-45E6-4E2C-8BE8-0C3FAEEF511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</a:t>
            </a:r>
            <a:r>
              <a:rPr b="0" lang="en-US" sz="1600" spc="-1" strike="noStrike">
                <a:solidFill>
                  <a:srgbClr val="003366"/>
                </a:solidFill>
                <a:latin typeface="Times New Roman"/>
              </a:rPr>
              <a:t>[Groover 2001]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there are 4 machines (1, 2, 3, and 4) in a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parts are to be processed shown in table (1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 parts enter the group at machine 3, 20 parts leave after being processed at machine 1, and 30 parts leave after machine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ind a logical arrangement for the machines in the cell 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5135400" y="1981080"/>
          <a:ext cx="3809880" cy="3031920"/>
        </p:xfrm>
        <a:graphic>
          <a:graphicData uri="http://schemas.openxmlformats.org/drawingml/2006/table">
            <a:tbl>
              <a:tblPr/>
              <a:tblGrid>
                <a:gridCol w="995400"/>
                <a:gridCol w="620640"/>
                <a:gridCol w="588960"/>
                <a:gridCol w="589320"/>
                <a:gridCol w="426600"/>
                <a:gridCol w="588960"/>
              </a:tblGrid>
              <a:tr h="4752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1-1: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26EF-B7E5-4070-A75C-B9F5AA6D10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1187280" y="1413000"/>
          <a:ext cx="4911840" cy="2849400"/>
        </p:xfrm>
        <a:graphic>
          <a:graphicData uri="http://schemas.openxmlformats.org/drawingml/2006/table">
            <a:tbl>
              <a:tblPr/>
              <a:tblGrid>
                <a:gridCol w="858960"/>
                <a:gridCol w="539640"/>
                <a:gridCol w="506520"/>
                <a:gridCol w="509760"/>
                <a:gridCol w="369720"/>
                <a:gridCol w="509760"/>
                <a:gridCol w="1617480"/>
              </a:tblGrid>
              <a:tr h="6408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1-2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3132000" y="4581360"/>
            <a:ext cx="576360" cy="208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4067280" y="1773000"/>
            <a:ext cx="28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24520" y="1484280"/>
            <a:ext cx="27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lution [3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42920" y="4292640"/>
          <a:ext cx="6244920" cy="2306520"/>
        </p:xfrm>
        <a:graphic>
          <a:graphicData uri="http://schemas.openxmlformats.org/drawingml/2006/table">
            <a:tbl>
              <a:tblPr/>
              <a:tblGrid>
                <a:gridCol w="977400"/>
                <a:gridCol w="613080"/>
                <a:gridCol w="576720"/>
                <a:gridCol w="418320"/>
                <a:gridCol w="581040"/>
                <a:gridCol w="1840680"/>
                <a:gridCol w="1237680"/>
              </a:tblGrid>
              <a:tr h="36216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1-3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3492360" y="1989000"/>
            <a:ext cx="576360" cy="208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635280" y="1773000"/>
            <a:ext cx="3745080" cy="38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6D1-6937-4F93-9F6D-539ECF80FB0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8728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discussion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052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station manned and automated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s of the two system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of single station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oup technology and cellular manufact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s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ion flow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liminary Plant layout using Precedence (From-To) Ch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F8CC-06AC-495B-9B79-0355E4C1E9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173240" y="1981080"/>
          <a:ext cx="3830040" cy="2095200"/>
        </p:xfrm>
        <a:graphic>
          <a:graphicData uri="http://schemas.openxmlformats.org/drawingml/2006/table">
            <a:tbl>
              <a:tblPr/>
              <a:tblGrid>
                <a:gridCol w="699480"/>
                <a:gridCol w="435960"/>
                <a:gridCol w="414000"/>
                <a:gridCol w="414000"/>
                <a:gridCol w="1315080"/>
                <a:gridCol w="551520"/>
              </a:tblGrid>
              <a:tr h="4032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1-4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592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"/>
          <p:cNvSpPr/>
          <p:nvPr/>
        </p:nvSpPr>
        <p:spPr>
          <a:xfrm>
            <a:off x="1835280" y="3213000"/>
            <a:ext cx="2520720" cy="5050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39000" y="1773360"/>
            <a:ext cx="37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lution: [3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4 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4211640" y="2133720"/>
            <a:ext cx="424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067280" y="5013360"/>
            <a:ext cx="576000" cy="503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76720" y="5013360"/>
            <a:ext cx="576360" cy="5032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189680" y="5033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173920" y="498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6084720" y="5013360"/>
            <a:ext cx="576360" cy="503280"/>
            <a:chOff x="6084720" y="5013360"/>
            <a:chExt cx="576360" cy="503280"/>
          </a:xfrm>
        </p:grpSpPr>
        <p:sp>
          <p:nvSpPr>
            <p:cNvPr id="288" name=""/>
            <p:cNvSpPr/>
            <p:nvPr/>
          </p:nvSpPr>
          <p:spPr>
            <a:xfrm>
              <a:off x="6084720" y="5013360"/>
              <a:ext cx="576360" cy="503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2944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093080" y="5013360"/>
            <a:ext cx="576000" cy="503280"/>
            <a:chOff x="7093080" y="5013360"/>
            <a:chExt cx="576000" cy="503280"/>
          </a:xfrm>
        </p:grpSpPr>
        <p:sp>
          <p:nvSpPr>
            <p:cNvPr id="291" name=""/>
            <p:cNvSpPr/>
            <p:nvPr/>
          </p:nvSpPr>
          <p:spPr>
            <a:xfrm>
              <a:off x="7093080" y="5013360"/>
              <a:ext cx="576000" cy="5032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3744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203640" y="530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236400" y="4890960"/>
            <a:ext cx="6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cc"/>
                </a:solidFill>
                <a:latin typeface="Times New Roman"/>
              </a:rPr>
              <a:t>50 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643280" y="5300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51640" y="530064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59640" y="530064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101800" y="479736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Times New Roman"/>
              </a:rPr>
              <a:t>30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660360" y="5877000"/>
            <a:ext cx="75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cc"/>
                </a:solidFill>
                <a:latin typeface="Times New Roman"/>
              </a:rPr>
              <a:t>20 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0" name=""/>
          <p:cNvCxnSpPr>
            <a:stCxn id="288" idx="4"/>
            <a:endCxn id="299" idx="1"/>
          </p:cNvCxnSpPr>
          <p:nvPr/>
        </p:nvCxnSpPr>
        <p:spPr>
          <a:xfrm flipH="1" rot="16200000">
            <a:off x="6249240" y="5650200"/>
            <a:ext cx="5356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1" name=""/>
          <p:cNvCxnSpPr>
            <a:stCxn id="291" idx="6"/>
          </p:cNvCxnSpPr>
          <p:nvPr/>
        </p:nvCxnSpPr>
        <p:spPr>
          <a:xfrm flipV="1">
            <a:off x="7678440" y="5012640"/>
            <a:ext cx="494280" cy="253080"/>
          </a:xfrm>
          <a:prstGeom prst="curvedConnector5">
            <a:avLst>
              <a:gd name="adj1" fmla="val 48833"/>
              <a:gd name="adj2" fmla="val 50000"/>
              <a:gd name="adj3" fmla="val 488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"/>
          <p:cNvSpPr/>
          <p:nvPr/>
        </p:nvSpPr>
        <p:spPr>
          <a:xfrm>
            <a:off x="5580000" y="2565360"/>
            <a:ext cx="1440000" cy="50472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owest is in the 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4048-C887-41B5-89DE-87E86DC4213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Hollier Method 2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-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rom-To ratio for each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Sum Row / Sum of corresponding colum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range machines in the order of decreasing From-To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57F4-7DE5-4689-BFB4-556830A425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 2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173240" y="1981080"/>
          <a:ext cx="6278400" cy="2586240"/>
        </p:xfrm>
        <a:graphic>
          <a:graphicData uri="http://schemas.openxmlformats.org/drawingml/2006/table">
            <a:tbl>
              <a:tblPr/>
              <a:tblGrid>
                <a:gridCol w="796680"/>
                <a:gridCol w="497160"/>
                <a:gridCol w="471240"/>
                <a:gridCol w="470160"/>
                <a:gridCol w="341280"/>
                <a:gridCol w="471240"/>
                <a:gridCol w="1498680"/>
                <a:gridCol w="1731960"/>
              </a:tblGrid>
              <a:tr h="3988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From-To ch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-To rat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/50 = 0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5/45 =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0/0 =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/40 = 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 Sum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2906640" y="5013360"/>
            <a:ext cx="383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lution = [3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2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1 </a:t>
            </a:r>
            <a:r>
              <a:rPr b="1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4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2843280" y="2924280"/>
            <a:ext cx="1944720" cy="1368360"/>
          </a:xfrm>
          <a:prstGeom prst="line">
            <a:avLst/>
          </a:prstGeom>
          <a:ln w="15840">
            <a:solidFill>
              <a:srgbClr val="3366ff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3347640" y="3357720"/>
            <a:ext cx="1368360" cy="934920"/>
          </a:xfrm>
          <a:prstGeom prst="line">
            <a:avLst/>
          </a:prstGeom>
          <a:ln w="15840">
            <a:solidFill>
              <a:srgbClr val="3366cc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3708360" y="3716280"/>
            <a:ext cx="1008000" cy="649440"/>
          </a:xfrm>
          <a:prstGeom prst="line">
            <a:avLst/>
          </a:prstGeom>
          <a:ln w="15840">
            <a:solidFill>
              <a:srgbClr val="3366cc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4211640" y="4076640"/>
            <a:ext cx="504720" cy="289080"/>
          </a:xfrm>
          <a:prstGeom prst="line">
            <a:avLst/>
          </a:prstGeom>
          <a:ln w="15840">
            <a:solidFill>
              <a:srgbClr val="3366cc"/>
            </a:solidFill>
            <a:prstDash val="sys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5E44-BA45-4FDD-9A1F-B171178DCB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Single station manufacturing system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applicable to all systems)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84428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independent units within a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, assemble or provide service independent from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for single product, batch, or mixed-model (different parts made sequenti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ned or Automate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FCF-1638-443E-A3CE-41CAFE871D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anned Cells &amp; Automated Cell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nn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operator responsible for a task either using a specific machine, tools, computer, telephone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to set up and run with minimal capital expendi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quire high skilled oper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single machine handling parts/people etc. (example: CNC, robots, answering machines, computer servers, 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production ra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F691-22EE-4775-9D12-80FB7BB4BE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anned Cells &amp; Automated Cells Example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2708280"/>
            <a:ext cx="544320" cy="792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2627280" y="2492280"/>
            <a:ext cx="301680" cy="7923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2916360" y="2492280"/>
            <a:ext cx="328320" cy="863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578200" y="3548160"/>
            <a:ext cx="26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Automatic Check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6084720" y="2492280"/>
            <a:ext cx="352440" cy="10796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045080" y="2421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asseng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78920" y="3548160"/>
            <a:ext cx="23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Manual Check-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3203640" y="2565360"/>
            <a:ext cx="328680" cy="8636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6516720" y="2637000"/>
            <a:ext cx="799920" cy="93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FD0C-8D4D-4B9C-A4A0-C5A57D3EE72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Analysis of single station system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workstation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F01-E80A-4748-B0E0-B255D938C8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Number of workstations require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557000"/>
            <a:ext cx="7848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specified quantity of products at a specified production 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o determine the number of workstations based on that spec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L = Q T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o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 = number of workstations      AT = Available time in a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WL = worlkload for a given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 = Quantity to be produced for that perio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cycle time required for each piece (time to mak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j = product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= Quantity of product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j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= cycle time for produc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659640" y="3789360"/>
                <a:ext cx="201600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L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4211640" y="2708280"/>
                <a:ext cx="136836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6359-B8DB-4E40-8CC7-4B6BFD5DA0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324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of 1000 parts needs to be produced in a week, each part is identical and requires a milling machine, each part requires 12.5 min. to be produc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akes 2.5 hrs to setup each machine (0.5 per day / 5 days week, total hours available in a week is 40 h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w many Milling Machines are n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6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195640" y="3903840"/>
                <a:ext cx="5832360" cy="25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W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2500</m:t>
                        </m:r>
                        <m:r>
                          <m:rPr>
                            <m:lit/>
                            <m:nor/>
                          </m:rPr>
                          <m:t xml:space="preserve">  mi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  <m:r>
                          <m:rPr>
                            <m:lit/>
                            <m:nor/>
                          </m:rPr>
                          <m:t xml:space="preserve"> h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me Avaialble for a Milling machine in a Week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 hr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8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  <m:r>
                          <m:rPr>
                            <m:lit/>
                            <m:nor/>
                          </m:rPr>
                          <m:t xml:space="preserve">  Machine or 6 machine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tlisatio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5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2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E5EC-3F35-49B5-848A-9037AADF02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12:07Z</dcterms:created>
  <dc:creator>emstaam</dc:creator>
  <dc:description/>
  <dc:language>en-US</dc:language>
  <cp:lastModifiedBy>emstaam</cp:lastModifiedBy>
  <dcterms:modified xsi:type="dcterms:W3CDTF">2011-09-09T08:30:54Z</dcterms:modified>
  <cp:revision>92</cp:revision>
  <dc:subject/>
  <dc:title>Discrete Modelling</dc:title>
</cp:coreProperties>
</file>