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EB7-C109-4162-93FF-B090F6EB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9A4-EA05-461D-B2A2-B958F5F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967-47A9-4F1E-A0C6-A4FC466E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119-CE2A-407F-A42B-20F9288E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0345-7EC1-4F34-B3D1-B9D4B807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F93A-0ED4-4C73-8776-F1DE690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8292-96AB-4E7A-81E5-A2D5430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3E8D-F5BB-411F-B8A3-6E826B09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5F25-D380-47EA-A367-F9FD3A6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F296-8E55-4789-9F33-4C7FF72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3C07-90B4-46B3-AF71-D25B68F4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362-325B-4C92-B0E9-23F4A920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907D-20CF-49C4-8C36-7EA9946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60A0-6F82-4A99-A4DE-64E1E96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A97C-6591-4BAE-923A-3F06BB8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6C01-27CE-416D-82E5-DC3C3BDF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4A5C-0DD0-4567-A457-9954F457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CCE-7C4D-4D4D-9291-42C2B784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359-86EF-4C19-9799-4B0DB41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666-0A9B-4064-910A-77DADEF0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348-55F2-4D18-9EA2-42E8BF2A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FFD-5B82-413A-B702-4F34C89A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E69-EDEE-4BCD-AB94-50553CE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038-53C8-4EC7-BCC1-58E85F66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7825-4319-4F39-BBFF-8399C3327E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95E0-DF7E-4ABD-81F3-94AFBA66AB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69048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Lab session 8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9280" y="3357360"/>
            <a:ext cx="896472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is session you shoul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ling multiple process plans for differe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n entit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cont’d.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odify existing Leav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load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Out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quest Transpor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ion Rule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mallest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lies when &gt; 1 transporter is availabl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thers:  Cyclic, Random, Preferred Order, Largest Distance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ve Attribute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 Type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Transpor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ve Time disappears … determined by Velocity, Distances (later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 Type =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qu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ead of Leave: Request-Delay-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complex, more flexible – book has details,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cont’d.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he Cart – modify existing Enter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unloa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In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e Transpor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Number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tribute of part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stances for Transpor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contents of Distance Se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s (in feet) moved by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nk cells: part movements that don’t occ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se data in Distance data module (Advanced Transfer pa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 button, add 11 rows with Beginning Station, Ending Station, Distance for abov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 is implied; could be asymmetr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4876920" cy="1442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086600" y="2514600"/>
            <a:ext cx="8380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imating Transporter Mov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distances to an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the old Route Path anima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leave the Station anim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imated transporter distances with Distance button      , Animate Transfer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log, placement similar to Route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in Beginning Station marker, intermediate clicks, Ending Station mark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for Rotate, Fl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id, Snap to help place animated transporter dist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007480" y="2492280"/>
            <a:ext cx="38088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arking Areas for Transpor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e transporters when they’re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ing button      , Animate Transfer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a Queue animation – Point vs. Line, Shift, Rot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sor becomes cross hairs, click near lower left of Station marker to start, click for first Point or head of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licks for more Points (double-click to end), or second click to end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enough points/space for all transporters (2 her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for all Stations where Transporters could be fr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4572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ore Distances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—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mpty Transport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3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Distances incomple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for part movements along thei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rs must also move when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eneral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1) distances need definition for network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distances to define in Distances data module (not gray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55072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11556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veyor concep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is ready to move from point A to Point B, it needs to Access a conveyor, be conveyed then ex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onveyor segments to be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v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onve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n-accumul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e’ll do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ts and stops for Access and Ex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cing between entities traveling on Conveyor consta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ccumul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on’t 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ver stop mov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pped entity blocks entities arriving at same loc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Model 8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ling Conveyo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-Constrained transf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ze, Route and Re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, Transport and F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s Distances to be 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, Convey and Ex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s Segments to be 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verview of Entity Transfer Typ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71440" y="1941480"/>
            <a:ext cx="7704000" cy="4102920"/>
            <a:chOff x="1171440" y="1941480"/>
            <a:chExt cx="7704000" cy="4102920"/>
          </a:xfrm>
        </p:grpSpPr>
        <p:cxnSp>
          <p:nvCxnSpPr>
            <p:cNvPr id="133" name="_s23861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797240" y="4459680"/>
              <a:ext cx="513360" cy="604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38616"/>
            <p:cNvCxnSpPr>
              <a:stCxn id="137" idx="0"/>
              <a:endCxn id="135" idx="2"/>
            </p:cNvCxnSpPr>
            <p:nvPr/>
          </p:nvCxnSpPr>
          <p:spPr>
            <a:xfrm flipH="1" flipV="1" rot="5400000">
              <a:off x="7192080" y="4458600"/>
              <a:ext cx="513360" cy="6069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38614"/>
            <p:cNvCxnSpPr>
              <a:stCxn id="139" idx="0"/>
              <a:endCxn id="140" idx="2"/>
            </p:cNvCxnSpPr>
            <p:nvPr/>
          </p:nvCxnSpPr>
          <p:spPr>
            <a:xfrm flipV="1" rot="16200000">
              <a:off x="5374800" y="4458960"/>
              <a:ext cx="513360" cy="605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238612"/>
            <p:cNvCxnSpPr>
              <a:stCxn id="142" idx="0"/>
              <a:endCxn id="140" idx="2"/>
            </p:cNvCxnSpPr>
            <p:nvPr/>
          </p:nvCxnSpPr>
          <p:spPr>
            <a:xfrm flipH="1" flipV="1" rot="5400000">
              <a:off x="4768560" y="4458960"/>
              <a:ext cx="513360" cy="6062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38610"/>
            <p:cNvCxnSpPr>
              <a:stCxn id="135" idx="0"/>
              <a:endCxn id="144" idx="2"/>
            </p:cNvCxnSpPr>
            <p:nvPr/>
          </p:nvCxnSpPr>
          <p:spPr>
            <a:xfrm flipV="1" rot="16200000">
              <a:off x="5979960" y="1707480"/>
              <a:ext cx="513360" cy="30312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38608"/>
            <p:cNvCxnSpPr>
              <a:stCxn id="140" idx="0"/>
              <a:endCxn id="144" idx="2"/>
            </p:cNvCxnSpPr>
            <p:nvPr/>
          </p:nvCxnSpPr>
          <p:spPr>
            <a:xfrm flipV="1" rot="16200000">
              <a:off x="4768200" y="2919240"/>
              <a:ext cx="513360" cy="6080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238606"/>
            <p:cNvCxnSpPr>
              <a:stCxn id="147" idx="0"/>
              <a:endCxn id="144" idx="2"/>
            </p:cNvCxnSpPr>
            <p:nvPr/>
          </p:nvCxnSpPr>
          <p:spPr>
            <a:xfrm flipH="1" flipV="1" rot="5400000">
              <a:off x="4161960" y="2920680"/>
              <a:ext cx="513360" cy="6055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238605"/>
            <p:cNvCxnSpPr>
              <a:stCxn id="149" idx="0"/>
              <a:endCxn id="144" idx="2"/>
            </p:cNvCxnSpPr>
            <p:nvPr/>
          </p:nvCxnSpPr>
          <p:spPr>
            <a:xfrm flipH="1" flipV="1" rot="5400000">
              <a:off x="3556440" y="2314800"/>
              <a:ext cx="513360" cy="18169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238604"/>
            <p:cNvCxnSpPr>
              <a:stCxn id="151" idx="0"/>
              <a:endCxn id="144" idx="2"/>
            </p:cNvCxnSpPr>
            <p:nvPr/>
          </p:nvCxnSpPr>
          <p:spPr>
            <a:xfrm flipH="1" flipV="1" rot="5400000">
              <a:off x="2950200" y="1708560"/>
              <a:ext cx="513360" cy="30297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238600"/>
            <p:cNvSpPr/>
            <p:nvPr/>
          </p:nvSpPr>
          <p:spPr>
            <a:xfrm>
              <a:off x="4200480" y="194148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tity Transf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238601"/>
            <p:cNvSpPr/>
            <p:nvPr/>
          </p:nvSpPr>
          <p:spPr>
            <a:xfrm>
              <a:off x="1171440" y="348012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nec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238602"/>
            <p:cNvSpPr/>
            <p:nvPr/>
          </p:nvSpPr>
          <p:spPr>
            <a:xfrm>
              <a:off x="2383920" y="348012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238603"/>
            <p:cNvSpPr/>
            <p:nvPr/>
          </p:nvSpPr>
          <p:spPr>
            <a:xfrm>
              <a:off x="3596760" y="3480120"/>
              <a:ext cx="103932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source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strain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f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238607"/>
            <p:cNvSpPr/>
            <p:nvPr/>
          </p:nvSpPr>
          <p:spPr>
            <a:xfrm>
              <a:off x="4809240" y="3480120"/>
              <a:ext cx="103824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porte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Dire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_s238609"/>
            <p:cNvSpPr/>
            <p:nvPr/>
          </p:nvSpPr>
          <p:spPr>
            <a:xfrm>
              <a:off x="7232400" y="3480120"/>
              <a:ext cx="103788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veyo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Norm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Unidire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238611"/>
            <p:cNvSpPr/>
            <p:nvPr/>
          </p:nvSpPr>
          <p:spPr>
            <a:xfrm>
              <a:off x="4203000" y="5018760"/>
              <a:ext cx="103788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e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porte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Ignores 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238613"/>
            <p:cNvSpPr/>
            <p:nvPr/>
          </p:nvSpPr>
          <p:spPr>
            <a:xfrm>
              <a:off x="5414400" y="5018760"/>
              <a:ext cx="103824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uid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porte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ffected b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traff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238615"/>
            <p:cNvSpPr/>
            <p:nvPr/>
          </p:nvSpPr>
          <p:spPr>
            <a:xfrm>
              <a:off x="6626160" y="5018760"/>
              <a:ext cx="103824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umula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veyo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Stops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Starts fo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Access and Ex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_s238617"/>
            <p:cNvSpPr/>
            <p:nvPr/>
          </p:nvSpPr>
          <p:spPr>
            <a:xfrm>
              <a:off x="7837560" y="5018760"/>
              <a:ext cx="1037880" cy="10256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umulat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veyor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Never st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ntity Transfer types so f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– No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 route or entity 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mit l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move along system by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New Entity Transfer Typ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source-constra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 total number of entities in transit at a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Health care (Patients walk-in), Telecommunications (number of packets), Logistics (number of vehic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-handl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multi-Direc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AGVs, fork lifts, trucks, carts, cranes, et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number of entities, capacity of trans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ke a Resource, except moveab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onveyor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Normally unidirec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lts, hook lines, escalato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ually limited space on conveyor, spe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-accumulating vs. accumulat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l 8-1: Small Manufacturing System with Resource-Constrained Transf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(Model 7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d all transfer times = 2 minut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limit on number of parts in transit at a ti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no more than 2 parts can be in motion at a give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ther parts are ready to go, they must wait until there’s room to 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via existing constr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; imagine a road wi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mited number of Units that can seize the road (resource) at beginning of tri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lease it at end of trip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anges to Model 7-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ou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Leav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dv. 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er out : Seize Resource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f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 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 (Adv.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s the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n: Relea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ou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model compare with 7-1 slight changes in WIP and Cycl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ransporter Concep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 is ready to move from point A to Point B, it needs to be “picked up” and 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moveable”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: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r Selection Rule: If &gt; 1 transporter is available when Requ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freed and &gt; 1 entity is waiting: Priorities, closest 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Trans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ee-P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’ll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vel time depends only on velocity, distanc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gnore “traffic jams” and their resulting delay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ui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on’t d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Vs, intersections, etc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carts for transporting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art can carry one part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ts move at 50 feet/min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ll need to specify accurate distances between St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0.25 minute to load part on a cart, 0.25 minute to unload it from a c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Model 8-1 to Model 8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Small Manufacturing System with Transporters (cont’d.) 8-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ransporter in Transporter data module (Advanced 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apacity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Velocity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the Distance Set (later), Units = Per Minute, Initial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nd the uni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imation      picture for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ranspor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r button (Animate Transfer toolba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pictures for Idle, Busy, Inactive st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30492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pgaak</cp:lastModifiedBy>
  <dcterms:modified xsi:type="dcterms:W3CDTF">2007-11-26T11:31:55Z</dcterms:modified>
  <cp:revision>75</cp:revision>
  <dc:subject/>
  <dc:title>Discrete Modelling</dc:title>
</cp:coreProperties>
</file>